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354C-832A-470A-9873-F9DCF885CFB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5876-A623-4352-BF90-D988E80DCC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B9BD-29B9-41CE-9928-BA326B279CB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56CA-F31F-4D0E-8635-BCA17DFBBF6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778A-F598-43D6-823D-0F04A2AC35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F6CB-EF4C-4D9B-BD43-F18D11E5CB8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3C2F-62FC-4D8B-BB36-53AE1DF550C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99EE-9EE9-451F-97BE-078872CDC17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8796-0F78-49BB-89F3-FBB5192E995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712E-D00E-4643-B65D-222C8838C9F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C36-3F83-4408-BF74-DF5D9C88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0EE-6417-4218-88C0-EBDC1EA7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951-B96E-4CB5-A46B-CE81CE21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30D-199A-45B6-A67C-69CC9125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F05-EB16-49AB-9837-BC2DC361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93D-5836-4AEC-A4A0-7F85E6F2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AAE-4C40-4E6F-B8A2-D087397C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8B7-706A-42B4-9AA3-B1F7BAC1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7F4-F66B-435E-A7BD-52DD95DF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613-AB95-4F0F-B0E8-B02F3A08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C66-1D1E-40BF-83DE-C97064AF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58D-26E8-4D8D-BF08-DD7907E8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3A0A-AD7B-43A9-91ED-F108624668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Opinia eksperta - Kiedy zarząd firmy powinien szczególnie zwracać uwagę na przepływy finansowe? </a:t>
            </a:r>
            <a:endParaRPr b="1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W skutek ostatniego kryzysu finansowego wiele firm zaczęło cierpieć na brak gotówki (krach na rynku kredytowym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Według Kevina Kaisera i S. Davida Younga jednym z podstawowych błędów w takiej sytuacji </a:t>
            </a: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jest koncentrowanie się na rachunku zysków i strat (raporcie finansowym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W efekcie (jak twierdzą autorzy) menedżerowie często zamrażają kapitał w zapasach i należnościach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evin Kaiser, S.David Young: Twoja firma potrzebuje gotówki? Poszukaj jej wewnątrz organizacji. W: Harvard Business Review , lipec sierpoień 2009, artykuł R0905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Wprowadzenie do rachunkowości sprawozdawczej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achunek zysków i st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rzepływy finans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856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76092"/>
                </a:solidFill>
                <a:latin typeface="Calibri"/>
              </a:rPr>
              <a:t>Różnica pomiędzy kosztem a wydatkiem</a:t>
            </a:r>
            <a:endParaRPr b="1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7280" y="108540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styczniu hurtownia budowlana kupiła za gotówkę towar o wartości 50 000 zł, który od razu sprzedała firmie budowlanej za kwotę 80 000 zł. Firma budowlana zapłaciła hurtowni w luty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82760" y="1979640"/>
          <a:ext cx="8389800" cy="1482840"/>
        </p:xfrm>
        <a:graphic>
          <a:graphicData uri="http://schemas.openxmlformats.org/drawingml/2006/table">
            <a:tbl>
              <a:tblPr/>
              <a:tblGrid>
                <a:gridCol w="2663640"/>
                <a:gridCol w="1531800"/>
                <a:gridCol w="2789280"/>
                <a:gridCol w="140508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asada kas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asada memoriał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ływy stycz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zychody stycz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datki stycz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y stycz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nik finansowy -stycz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nik finansowy- stycz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4" name="Podtytuł 2"/>
          <p:cNvSpPr/>
          <p:nvPr/>
        </p:nvSpPr>
        <p:spPr>
          <a:xfrm>
            <a:off x="295200" y="378936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W styczniu hurtownia budowlana kupiła towar o wartości 50 000zł (płatność nastąpiła w lutym), który od razu sprzedała firmie budowlanej za gotówkę za 80 000z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31640" y="4508640"/>
          <a:ext cx="8390160" cy="1484280"/>
        </p:xfrm>
        <a:graphic>
          <a:graphicData uri="http://schemas.openxmlformats.org/drawingml/2006/table">
            <a:tbl>
              <a:tblPr/>
              <a:tblGrid>
                <a:gridCol w="2664000"/>
                <a:gridCol w="1531800"/>
                <a:gridCol w="2789280"/>
                <a:gridCol w="1405080"/>
              </a:tblGrid>
              <a:tr h="37116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asada kas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asada memoriał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ływy stycz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zychody stycz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datki stycz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y stycz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nik finansowy -stycz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nik Finansowy- stycz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Rachunek zysków i strat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82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W grze ten typ sprawozdania nosi nazwę </a:t>
            </a: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raportu finansoweg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Przedstawia on </a:t>
            </a: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wszystkie przychody i koszty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w danym okresie oraz prezentuje </a:t>
            </a: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wynik finansowy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Dynamiczny rozwój przedsiębiorstwa (wysokie koszty inwestycji) często wiąże się z ujemnym wynikiem w danym okresie – nie należy się tym przejmować. Kiedy nie dokonuje się inwestycji, wynik powinien być dodatn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W tym zestawieniu stosuje się </a:t>
            </a: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zasadę memoriałową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Na podstawie Rachunku Zysków i Strat ocenia się </a:t>
            </a: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sytuację finansową przedsiębiorstw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3480" y="115920"/>
            <a:ext cx="3946320" cy="60166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4255920" y="1844640"/>
            <a:ext cx="48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Przychody z wynajmu poko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4240080" y="242100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Dotacje oraz odsetki z lokat terminow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227480" y="3619440"/>
            <a:ext cx="50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Czynsz, koszt obsługi, koszt działałności hote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227480" y="42530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Reklama, strona internet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4240080" y="48355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Budowa nowych poko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4240080" y="55483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Przychody - Kosz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Przepływy finansowe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23640" y="105264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estawienie to bazuje na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sadzie kasowej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ym zestawieniu liczy się termin dokonania płatności, a nie termin wystawienia fak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estawienie to koncentruje się na stanie gotówki, którym dysponuje firma , a nie wyniku finansowy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aldo końcowe - w tym zestawieniu - stanowi skumulowany bilans wpływów i wypływów finansowych z bieżącego i przeszłych okres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79760" y="188640"/>
            <a:ext cx="3886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libri"/>
              </a:rPr>
              <a:t>Saldo początkowe to stan gotówki na początku okresu.</a:t>
            </a:r>
            <a:endParaRPr b="1" lang="en-US" sz="2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3640" y="105264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24600" cy="5950080"/>
          </a:xfrm>
          <a:prstGeom prst="rect">
            <a:avLst/>
          </a:prstGeom>
          <a:ln w="0">
            <a:noFill/>
          </a:ln>
        </p:spPr>
      </p:pic>
      <p:sp>
        <p:nvSpPr>
          <p:cNvPr id="70" name="Title 2"/>
          <p:cNvSpPr/>
          <p:nvPr/>
        </p:nvSpPr>
        <p:spPr>
          <a:xfrm>
            <a:off x="5329080" y="1959120"/>
            <a:ext cx="388620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Klasyfikacja przychodów i kosztów (wpływów i wydatków) jest bardzo podobna do tej w Rachunku Zysków i Str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2"/>
          <p:cNvSpPr/>
          <p:nvPr/>
        </p:nvSpPr>
        <p:spPr>
          <a:xfrm>
            <a:off x="5329080" y="409896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Saldo końcowe = Saldo Początkowe + Wpływy - Wypły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Dlaczego możemy zbankrutować pomimo pozytywnego wyniku finansowego?</a:t>
            </a:r>
            <a:endParaRPr b="1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87280" y="119664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W rachunku zysków i strat stosujemy zasadę memoriałową, czyli nasz przychód jest księgowany w momencie wystawienia faktury. Płatność dla klienta jest zazwyczaj odroczona w czasi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Jeżeli duża grupa klientów nie zapłaci swoich zobowiązań to w naszym Rachunku Zysków i Strat mamy wynik pozytywny jednak na naszych kontach nie ma pieniędzy co oznacza, że my nie możemy zapłacić naszych zobowiązań. To w konsekwencji może prowadzić do bankructw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Dlaczego możemy zbankrutować pomimo pozytywnego wyniku finansowego – opinia praktyka. </a:t>
            </a:r>
            <a:endParaRPr b="1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Terminy płatności za usługi budowlane we Francji wynoszą ok. 90 dn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Przedsiębiorstwo dostarczające te usługi musi płacić swoje zobowiązania wobec dostawców, pracowników, urzędów podatkowych w okresie ok. 30 dn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O ile przedsiębiorstwo nie pozyska finansowania zewnętrznego i nie dysponuje odpowiednimi zasobami gotówki, może nie być w stanie regulować w terminie swoich zobowiązań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To z kolei rodzi zagrożenie prawne oraz wizerunkowe (niesolidny płatnik) oraz koszty odsetek za przeterminowane płatnośc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500" spc="-1" strike="noStrike">
                <a:solidFill>
                  <a:srgbClr val="000000"/>
                </a:solidFill>
                <a:latin typeface="Calibri"/>
              </a:rPr>
              <a:t>Aleksander Majewski – prezes Lambda S.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1:13:25Z</dcterms:modified>
  <cp:revision>57</cp:revision>
  <dc:subject/>
  <dc:title>Slajd 1</dc:title>
</cp:coreProperties>
</file>